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E4C-F8EE-4BE7-9C2E-8844F25D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AB6-CB1A-48A6-B964-396A240A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D05-369C-44C2-9F73-7FDA3880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198-B422-4A37-B184-95F10976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AF7-A1B3-4C62-9D94-8B0EE3CD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AD1-4FF8-4EB6-A49B-87729A95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CB6-3738-4102-B7A9-3BC4A7FF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685-B728-4975-96D3-71407149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1BA-34EF-44AE-9F4F-156D90B5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AE4-A14D-418C-A23E-500FB35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FD5-F6C7-4219-9963-5890DBAC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766-0FD6-4137-BB97-0B244DE4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A8BA-3E89-45B8-A648-2647C5D3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copies hand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makes organisms more advan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descended from 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more evolutionarily advanced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alleles are for beneficia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not b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a theory (not a fact), therefore evolution is just spe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’t believe in God and in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does not explain how life orig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acts for the good of the species or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 be summarized by the phrase: “Survival of the fitte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rganisms can adapt or evolve to better survive in new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(e.g. the tallest, the most red, etc.) trait of an organism allows it to surviv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does not always result in a species being perfectly adapted to thei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53:12Z</dcterms:created>
  <dc:creator>rubina khan</dc:creator>
  <dc:description/>
  <dc:language>en-US</dc:language>
  <cp:lastModifiedBy>rubina khan</cp:lastModifiedBy>
  <dcterms:modified xsi:type="dcterms:W3CDTF">2015-05-19T17:06:25Z</dcterms:modified>
  <cp:revision>50</cp:revision>
  <dc:subject/>
  <dc:title>Evolution Quiz</dc:title>
</cp:coreProperties>
</file>